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A89-8F68-45A2-ACCA-F9B981C8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558-32D0-4E24-90E9-0B6DB4D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9E6-228C-4D45-AC4C-3CF7727B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A0B-5D7F-4324-94C5-AFB64D0C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448-A3FD-4718-9CFA-F9F011F5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AC9-948E-4AD5-83A2-8FDD0FC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23F7-03E2-4749-B60E-CA3CDF5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DC1-8960-4DED-AEE6-BCBAD1B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BB10-E762-4059-9B08-5525724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85AE-087E-4793-8C43-86FDEC4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040-0023-4A99-A8BB-245851D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193-EDB9-4320-885D-976D322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C4D3-3318-4A17-A1A2-71220DE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B667-347F-403E-89EF-76FEF0B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5D93-F54E-4FBB-B9A6-0B66656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A4E-D710-42A1-A3EF-5B1B2AC7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2FB-2788-4927-B2E0-8172CE3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20A-C23D-459D-B79D-7F286F9A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716-9F55-4519-8311-5C8C2397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96D-FF90-4620-869F-2D483DF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51A-77AB-49A6-8D54-B3B3179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CAE-549A-4A5F-919A-C899606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644-D5D4-4AB3-A908-293009AA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4DF-0DAA-4F89-A622-F6D885B9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FF9-3FCC-4BDD-B97D-9E4101787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759-2DBF-4056-959F-0655C0C24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ge 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and the imperfect together when an action (preterite) interrupts another that is taking place in the past (imperfec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taller 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ntr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profe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when two or more actions are taking place simultaneously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ientras los niño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pint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profesor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observ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pintu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ou have learned to use the imperfect tense to describe something that </a:t>
            </a:r>
            <a:br>
              <a:rPr sz="3200"/>
            </a:b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used 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take place regul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ou also use the imperfec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 describe people, places, and situations in the pa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cía mucho calor.  El estadi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leno.  Los espectadore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grit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talk about a past action that was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continuou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r that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kept happening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 (habitual 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tletas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se entren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gimnas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so use the imperfect to describe the date, time, age, and weather in the pa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5 de novie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Er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seis de la mañana pero ya hacía ca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hen speaking about the past, you can use either the preterite or the imperfect, depending on the sentence and the meaning you wish to convey.  Comp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in de semana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tomé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a clase de cerámic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iño,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tom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lases de escul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to tell about past actions that happened and are compl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ábado, la clase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 las 10 de la mañ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tell about habitual actions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niño, las clases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 las 5 de la tar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to give a sequence of actions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lleg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la profesora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sac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u pintura y sus pinceles y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ó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pint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give background details such as time, location, weather, mood, age, and physical and mental descrip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dos de la tarde. 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parque. 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día de otoño.  Todo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cont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18:02Z</dcterms:created>
  <dc:creator>John McCreary</dc:creator>
  <dc:description/>
  <dc:language>en-US</dc:language>
  <cp:lastModifiedBy>Suzanne</cp:lastModifiedBy>
  <dcterms:modified xsi:type="dcterms:W3CDTF">2009-09-07T20:03:54Z</dcterms:modified>
  <cp:revision>5</cp:revision>
  <dc:subject/>
  <dc:title>Preterite vs. Imperfect</dc:title>
</cp:coreProperties>
</file>